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753-C6F4-4B8B-9DF9-B37680AA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571-9B21-4AC0-81A0-08FB69F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2CE-7E24-48F4-9B61-A63288AB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51E-2D88-48A9-94AE-E3913C4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E69-DA19-473B-9020-22DF42F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021-92BC-419D-9537-4CDBC6E3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70D-D663-4F44-9C15-69C77EE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BED-6923-4DA7-9E1D-CFCB055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5AB-9BA9-4221-8723-D146ACF6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A67-9683-46EC-B526-019F8563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2EE-3FC7-4451-A8DC-2FFAF6AF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C6A-D84C-4ED1-96D3-2CD46046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72E4-0796-4D3A-90A7-480A6EA1C8C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48E-6FCF-456C-8958-5C667CA9D9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407880" y="1628640"/>
            <a:ext cx="11393640" cy="2803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944640" y="3413160"/>
            <a:ext cx="103028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971640" y="1330200"/>
            <a:ext cx="102488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846000" y="1111320"/>
            <a:ext cx="10499760" cy="3917880"/>
          </a:xfrm>
          <a:prstGeom prst="rect">
            <a:avLst/>
          </a:prstGeom>
          <a:ln w="0">
            <a:noFill/>
          </a:ln>
        </p:spPr>
      </p:pic>
      <p:sp>
        <p:nvSpPr>
          <p:cNvPr id="103" name="矩形 3"/>
          <p:cNvSpPr/>
          <p:nvPr/>
        </p:nvSpPr>
        <p:spPr>
          <a:xfrm>
            <a:off x="911160" y="1111320"/>
            <a:ext cx="10372680" cy="39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" descr=""/>
          <p:cNvPicPr/>
          <p:nvPr/>
        </p:nvPicPr>
        <p:blipFill>
          <a:blip r:embed="rId1"/>
          <a:stretch/>
        </p:blipFill>
        <p:spPr>
          <a:xfrm>
            <a:off x="674640" y="1152360"/>
            <a:ext cx="108428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3" descr=""/>
          <p:cNvPicPr/>
          <p:nvPr/>
        </p:nvPicPr>
        <p:blipFill>
          <a:blip r:embed="rId1"/>
          <a:stretch/>
        </p:blipFill>
        <p:spPr>
          <a:xfrm>
            <a:off x="682560" y="1316160"/>
            <a:ext cx="108266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712800" y="1579680"/>
            <a:ext cx="107665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816120" y="1228680"/>
            <a:ext cx="10559880" cy="3970440"/>
          </a:xfrm>
          <a:prstGeom prst="rect">
            <a:avLst/>
          </a:prstGeom>
          <a:ln w="0">
            <a:noFill/>
          </a:ln>
        </p:spPr>
      </p:pic>
      <p:sp>
        <p:nvSpPr>
          <p:cNvPr id="108" name="矩形 3"/>
          <p:cNvSpPr/>
          <p:nvPr/>
        </p:nvSpPr>
        <p:spPr>
          <a:xfrm>
            <a:off x="8400960" y="198900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8400960" y="2854440"/>
            <a:ext cx="24703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8407440" y="3629160"/>
            <a:ext cx="27781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8407440" y="4489560"/>
            <a:ext cx="9619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685800" y="901800"/>
            <a:ext cx="10820520" cy="462420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2136600" y="2421000"/>
            <a:ext cx="668664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2066760" y="4076640"/>
            <a:ext cx="9333000" cy="17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606600" y="930240"/>
            <a:ext cx="10978920" cy="471024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9842400" y="161928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476280" y="930240"/>
            <a:ext cx="11239560" cy="4710240"/>
          </a:xfrm>
          <a:prstGeom prst="rect">
            <a:avLst/>
          </a:prstGeom>
          <a:ln w="0">
            <a:noFill/>
          </a:ln>
        </p:spPr>
      </p:pic>
      <p:sp>
        <p:nvSpPr>
          <p:cNvPr id="118" name="矩形 3"/>
          <p:cNvSpPr/>
          <p:nvPr/>
        </p:nvSpPr>
        <p:spPr>
          <a:xfrm>
            <a:off x="984240" y="3284640"/>
            <a:ext cx="1023300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746280" y="822240"/>
            <a:ext cx="10699560" cy="4496040"/>
          </a:xfrm>
          <a:prstGeom prst="rect">
            <a:avLst/>
          </a:prstGeom>
          <a:ln w="0">
            <a:noFill/>
          </a:ln>
        </p:spPr>
      </p:pic>
      <p:sp>
        <p:nvSpPr>
          <p:cNvPr id="82" name="矩形 2"/>
          <p:cNvSpPr/>
          <p:nvPr/>
        </p:nvSpPr>
        <p:spPr>
          <a:xfrm>
            <a:off x="9842400" y="2911320"/>
            <a:ext cx="962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9898200" y="4545000"/>
            <a:ext cx="9619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23960" y="558720"/>
            <a:ext cx="107442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716040" y="420840"/>
            <a:ext cx="10760040" cy="40082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" descr=""/>
          <p:cNvPicPr/>
          <p:nvPr/>
        </p:nvPicPr>
        <p:blipFill>
          <a:blip r:embed="rId2"/>
          <a:stretch/>
        </p:blipFill>
        <p:spPr>
          <a:xfrm>
            <a:off x="750960" y="4510080"/>
            <a:ext cx="10690200" cy="156996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841320" y="2050920"/>
            <a:ext cx="1068084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407880" y="1701720"/>
            <a:ext cx="6942240" cy="3268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2"/>
          <a:stretch/>
        </p:blipFill>
        <p:spPr>
          <a:xfrm>
            <a:off x="5519880" y="1701720"/>
            <a:ext cx="6232320" cy="3481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3"/>
          <a:stretch/>
        </p:blipFill>
        <p:spPr>
          <a:xfrm>
            <a:off x="714240" y="566640"/>
            <a:ext cx="10477800" cy="701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4"/>
          <a:stretch/>
        </p:blipFill>
        <p:spPr>
          <a:xfrm>
            <a:off x="9120240" y="5156280"/>
            <a:ext cx="2224080" cy="739800"/>
          </a:xfrm>
          <a:prstGeom prst="rect">
            <a:avLst/>
          </a:prstGeom>
          <a:ln w="0">
            <a:noFill/>
          </a:ln>
        </p:spPr>
      </p:pic>
      <p:sp>
        <p:nvSpPr>
          <p:cNvPr id="92" name="矩形 5"/>
          <p:cNvSpPr/>
          <p:nvPr/>
        </p:nvSpPr>
        <p:spPr>
          <a:xfrm>
            <a:off x="9767880" y="5156280"/>
            <a:ext cx="96192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712800" y="828720"/>
            <a:ext cx="10766520" cy="46260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065320" y="2347920"/>
            <a:ext cx="6561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065320" y="4003560"/>
            <a:ext cx="9433080" cy="14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671400" y="900000"/>
            <a:ext cx="1070604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2"/>
          <a:stretch/>
        </p:blipFill>
        <p:spPr>
          <a:xfrm>
            <a:off x="1177920" y="1666800"/>
            <a:ext cx="10409400" cy="3954600"/>
          </a:xfrm>
          <a:prstGeom prst="rect">
            <a:avLst/>
          </a:prstGeom>
          <a:ln w="0">
            <a:noFill/>
          </a:ln>
        </p:spPr>
      </p:pic>
      <p:sp>
        <p:nvSpPr>
          <p:cNvPr id="98" name="矩形 3"/>
          <p:cNvSpPr/>
          <p:nvPr/>
        </p:nvSpPr>
        <p:spPr>
          <a:xfrm>
            <a:off x="1273320" y="4869000"/>
            <a:ext cx="83152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590400" y="576360"/>
            <a:ext cx="108666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952560" y="874800"/>
            <a:ext cx="10287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3T06:43:23Z</dcterms:modified>
  <cp:revision>3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